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4373-7F57-4ACA-91DE-B5E9A3005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F0AD-A0C2-4EE6-92B0-759BF7A39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8CC4-67C0-446C-B01E-58CE366DD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1E52-BCB3-482B-A80D-D86F63FE8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977D-5BED-4BFD-8846-6AF2BB88D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6349-4D48-4496-871A-0E42BCF56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0881-FD94-45F7-9355-1AC7FDF22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6490-AEB3-4D94-8C40-9F12979A2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1707-DB4F-44B9-98C3-CA8F3548D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C8CD-9E70-4E03-B5F6-B60C0233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6199-6E73-473F-B02F-C587227C0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C074-92FF-4682-8F04-A19CF7E6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B0166-1CA3-4BA3-891F-E1DA4104E816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7030a0"/>
                </a:solidFill>
                <a:latin typeface="맑은 고딕"/>
              </a:rPr>
              <a:t>자동차의 피부 </a:t>
            </a:r>
            <a:br>
              <a:rPr sz="5000"/>
            </a:b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r>
              <a:rPr b="0" lang="ko-KR" sz="4400" spc="-1" strike="noStrike">
                <a:solidFill>
                  <a:srgbClr val="7030a0"/>
                </a:solidFill>
                <a:latin typeface="맑은 고딕"/>
              </a:rPr>
              <a:t>도장</a:t>
            </a: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조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만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상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신준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장재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동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탈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칼리클리너로 방청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압연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프레스유등을제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조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티탄을 주성분으로 하는 처리제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의 피막형성 반응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높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치밀한 결정을 생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막화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수절건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전착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하도도막은 주로 방청기능을 분담한다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카티온형 전착도료 채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폭시 수지를 베이스로 하는 카티온형 전착도료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①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피막의 용출이 없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 ②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부식반응의 억제 효과 ③부착력 유지효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8" name="그림 3" descr="Pic_PROC_PARTS03_PIC.jpg"/>
          <p:cNvPicPr/>
          <p:nvPr/>
        </p:nvPicPr>
        <p:blipFill>
          <a:blip r:embed="rId2"/>
          <a:stretch/>
        </p:blipFill>
        <p:spPr>
          <a:xfrm>
            <a:off x="1214280" y="1643040"/>
            <a:ext cx="6786720" cy="43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하도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전착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의 방청기능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&amp;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상도도장의 미장기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최대한 발휘위한 보조적 역할수행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계 전체의 도장품질향상의 기능 가짐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▶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장공정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실제의 도장라인에서는 어느정도 피할 수 없는 하지불량 커버하므로서 도장불량 낮추는데 공헌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료→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맑은 고딕"/>
              </a:rPr>
              <a:t>Oil Free Polyester </a:t>
            </a:r>
            <a:r>
              <a:rPr b="0" lang="ko-KR" sz="2500" spc="-1" strike="noStrike">
                <a:solidFill>
                  <a:srgbClr val="ff0000"/>
                </a:solidFill>
                <a:latin typeface="맑은 고딕"/>
              </a:rPr>
              <a:t>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기본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멜라민 수지와 최근 우레탄을 도입열경화 시키는 타입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내구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수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흡수성 낮고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lister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칩핑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돌이 튀었을때의 충격 에너지흡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소지까지 이르는 도막손상 경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cab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을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외선 열화 小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옥외 폭로박리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미장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피복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의 표면조도 피복       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      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완성된 외관 평활화 기여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용제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도료 용제에 의한 중도도막의 팽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용해억제 → 고선영성의 외관품질 얻어짐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색채조정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중도도막은 통상 회색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맑은 고딕"/>
              </a:rPr>
              <a:t>최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착색시킴 → 은폐성 낮은 상도도색 적용 가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45336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중도도막에 요구되어지는 품질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칩핑성 양호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은폐성 우수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과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평활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를 광소실하지 않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와의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광선 열화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의 구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3" name="내용 개체 틀 3" descr="title_3_5_7s.gif"/>
          <p:cNvPicPr/>
          <p:nvPr/>
        </p:nvPicPr>
        <p:blipFill>
          <a:blip r:embed="rId2"/>
          <a:stretch/>
        </p:blipFill>
        <p:spPr>
          <a:xfrm>
            <a:off x="928800" y="1643040"/>
            <a:ext cx="7572240" cy="46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의 부여와 또 그것을 보호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최대 기능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의 평활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선영성 등의 품질항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미관을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</a:rPr>
              <a:t>장기간 보호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지 능력 요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*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선영성</a:t>
            </a: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도막의 물체의 상을 선명하게 비추는 능력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도료에 적용된 안료 종류에 따라 색상이 구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박편상의 알루미늄분 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lake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안료 사용 유무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마이카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메칼릭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솔리드 칼라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0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색감별로 상도분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내용 개체 틀 3" descr="살쾡이.gif"/>
          <p:cNvPicPr/>
          <p:nvPr/>
        </p:nvPicPr>
        <p:blipFill>
          <a:blip r:embed="rId2"/>
          <a:stretch/>
        </p:blipFill>
        <p:spPr>
          <a:xfrm>
            <a:off x="928800" y="2143080"/>
            <a:ext cx="7156440" cy="4071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   </a:t>
            </a: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목  차</a:t>
            </a:r>
            <a:r>
              <a:rPr b="0" lang="en-US" sz="4400" spc="-1" strike="noStrike">
                <a:solidFill>
                  <a:srgbClr val="ffffff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도료의 정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도장공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래 자동차 도장의 개발방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솔리드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루미늄분 포함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X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착색안료 덮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 거의 도막 표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반사광만 결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 향상 및 초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클리어가 도장되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Coat 1Bak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타입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적색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청색 착색안료의 원색이 그대로나타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99096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메칼릭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42840" y="2214720"/>
            <a:ext cx="528660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반투명 에나멜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+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알루미늄분 혼합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도막중에 알루미늄 가루의 뜨고 가라앉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배열방식에 따라 에나멜 층을 통해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금속의 독특한 광택 나타내도록 만들어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3286080" cy="2614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785880" y="471492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메탈릭 도료의 위에는 도막에 한층 더 광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부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내후성을 위해 클리어 도료 칠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 빛을 반사만 함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마이카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3929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여러각도에서 다양한 색채감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펄도료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: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화이트 마이카 단독 사용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은폐력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X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칼라 베이스 필요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0000"/>
                </a:solidFill>
                <a:latin typeface="맑은 고딕"/>
              </a:rPr>
              <a:t>칼라베이스에 의해 진주광택감 결정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130640" y="1214280"/>
            <a:ext cx="4727520" cy="2714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428760" y="2052720"/>
            <a:ext cx="371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“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”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itanized Mica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안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의 도장작업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목적으로 하는 상도도막을 경제적으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재현성을 좋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얻기 위해서는 양호한 도장 작업성 필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00040" y="292896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수지의 점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자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상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흡유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산입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첨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점성부여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레벨링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소포제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색분리방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경화속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기본수지의 관능기 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가교제의 반응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의 내후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는 여러가지 환경속에서 장시간 폭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은 빛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열 등 작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막구성성분 혹은 도막 전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리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화학적 성질이 점차로 변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결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손상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여러가지 좋지않은 현상 발생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4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환경대응형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00040" y="157176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하이솔리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규제 대응한 고형분 높은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 사용량줄인 타입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수성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의 사용량 극소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도료 희석 신나로 물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순수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사용하는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기능성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복합가교형 도료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계에서 산성비 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휘약한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일부를 우레탄계 또는 실란수지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대체한 타입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    →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산성 및 내스크래치성을 향상시킨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신가교형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수지에 산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에폭시 경화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경화 시킨 비멜라민계 도료내산성 및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스크래치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오염성 등 우수한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나노기술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3" name="내용 개체 틀 3" descr="zzz.bmp"/>
          <p:cNvPicPr/>
          <p:nvPr/>
        </p:nvPicPr>
        <p:blipFill>
          <a:blip r:embed="rId2"/>
          <a:stretch/>
        </p:blipFill>
        <p:spPr>
          <a:xfrm>
            <a:off x="500040" y="1714680"/>
            <a:ext cx="4000680" cy="392904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4" descr="ssstibis_8.jpg"/>
          <p:cNvPicPr/>
          <p:nvPr/>
        </p:nvPicPr>
        <p:blipFill>
          <a:blip r:embed="rId3"/>
          <a:stretch/>
        </p:blipFill>
        <p:spPr>
          <a:xfrm>
            <a:off x="4500720" y="1714680"/>
            <a:ext cx="3786120" cy="392904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642960" y="5996160"/>
            <a:ext cx="77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※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흠집방지효과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색상을 윤택하게하며 광택개선됨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메탈릭칼라 뿐아니라 전도장작업에 적용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팔각형 6"/>
          <p:cNvSpPr/>
          <p:nvPr/>
        </p:nvSpPr>
        <p:spPr>
          <a:xfrm rot="4003800">
            <a:off x="2910240" y="2466000"/>
            <a:ext cx="3286080" cy="32115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000680" y="18572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저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15000" y="250020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1" lang="en-US" sz="1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786280" y="3857760"/>
            <a:ext cx="18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11"/>
          <p:cNvSpPr/>
          <p:nvPr/>
        </p:nvSpPr>
        <p:spPr>
          <a:xfrm flipV="1" rot="10800000">
            <a:off x="6286320" y="38566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PN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Box 12"/>
          <p:cNvSpPr/>
          <p:nvPr/>
        </p:nvSpPr>
        <p:spPr>
          <a:xfrm flipV="1" rot="10800000">
            <a:off x="5786280" y="5214600"/>
            <a:ext cx="18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환경호르몬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Box 13"/>
          <p:cNvSpPr/>
          <p:nvPr/>
        </p:nvSpPr>
        <p:spPr>
          <a:xfrm flipV="1" rot="10800000">
            <a:off x="3857400" y="59288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악취저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14"/>
          <p:cNvSpPr/>
          <p:nvPr/>
        </p:nvSpPr>
        <p:spPr>
          <a:xfrm flipV="1" rot="10800000">
            <a:off x="1714320" y="5285160"/>
            <a:ext cx="185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산업폐기물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15"/>
          <p:cNvSpPr/>
          <p:nvPr/>
        </p:nvSpPr>
        <p:spPr>
          <a:xfrm flipV="1" rot="10800000">
            <a:off x="928800" y="3856680"/>
            <a:ext cx="20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HAPs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16"/>
          <p:cNvSpPr/>
          <p:nvPr/>
        </p:nvSpPr>
        <p:spPr>
          <a:xfrm flipV="1" rot="10800000">
            <a:off x="1357200" y="249984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중금속 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357720" y="3643200"/>
            <a:ext cx="2500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500" spc="-1" strike="noStrike">
                <a:solidFill>
                  <a:srgbClr val="ffffff"/>
                </a:solidFill>
                <a:latin typeface="굴림"/>
              </a:rPr>
              <a:t>환경보호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육각형 3"/>
          <p:cNvSpPr/>
          <p:nvPr/>
        </p:nvSpPr>
        <p:spPr>
          <a:xfrm>
            <a:off x="2571840" y="2143080"/>
            <a:ext cx="3929040" cy="37148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929120" y="16430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에너지절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6500880" y="37148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간활용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78620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인원활용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71840" y="1643040"/>
            <a:ext cx="207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정단축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214200" y="3786120"/>
            <a:ext cx="292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자원재생효율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35728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사용량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3357720" y="350028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ffff"/>
                </a:solidFill>
                <a:latin typeface="굴림"/>
              </a:rPr>
              <a:t>경제성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정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의 표면에 도장되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건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경화과정을 거쳐 얇은 연속 도막을 형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체의 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등을 위해 도료를             사용하여 도막을 형성시키는 조작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8000" spc="-1" strike="noStrike">
                <a:solidFill>
                  <a:srgbClr val="eeece1"/>
                </a:solidFill>
                <a:latin typeface="맑은 고딕"/>
              </a:rPr>
              <a:t>Thank - you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도장의 목적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공기중의 수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와 반응을 방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형체에 맞는 색채감을 표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품성의 향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TWO-TON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급격한 환경변화로 자동차 외관의 내구성필요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성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세차기 브러쉬에 의한 손상방지 기능성 도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714680" y="1571760"/>
            <a:ext cx="6429240" cy="4214520"/>
          </a:xfrm>
          <a:prstGeom prst="rect">
            <a:avLst/>
          </a:prstGeom>
          <a:ln w="0">
            <a:noFill/>
          </a:ln>
        </p:spPr>
      </p:pic>
      <p:pic>
        <p:nvPicPr>
          <p:cNvPr id="53" name="그림 4" descr="투톤.jpg"/>
          <p:cNvPicPr/>
          <p:nvPr/>
        </p:nvPicPr>
        <p:blipFill>
          <a:blip r:embed="rId3"/>
          <a:stretch/>
        </p:blipFill>
        <p:spPr>
          <a:xfrm>
            <a:off x="1928880" y="1428840"/>
            <a:ext cx="5952960" cy="47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용 도료의 구성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부여관점에서 그시대 최신의기술을 적용 자동차의 상품성 향상에 기여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" name="그림 3" descr="AAA.gif"/>
          <p:cNvPicPr/>
          <p:nvPr/>
        </p:nvPicPr>
        <p:blipFill>
          <a:blip r:embed="rId2"/>
          <a:stretch/>
        </p:blipFill>
        <p:spPr>
          <a:xfrm>
            <a:off x="642960" y="1785960"/>
            <a:ext cx="8001000" cy="298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품질항목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용 도료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 관계되는도장품질항목이 있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이들 도장품질을 가장 경제적으로 달성하도록 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계가 설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1" name="그림 9" descr="title_3_4_2s.gif"/>
          <p:cNvPicPr/>
          <p:nvPr/>
        </p:nvPicPr>
        <p:blipFill>
          <a:blip r:embed="rId2"/>
          <a:stretch/>
        </p:blipFill>
        <p:spPr>
          <a:xfrm>
            <a:off x="857160" y="3643200"/>
            <a:ext cx="7643880" cy="30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의 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목표로 하는 자동차의 도장품질을 가장 경제적으로 얻기 위해 도장공정및 도장사양 이설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 공정에서 얻어지는 도막에 각각 중요  품질을 기능분담시키고있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5" name="그림 3" descr="title_3_4_5s.gif"/>
          <p:cNvPicPr/>
          <p:nvPr/>
        </p:nvPicPr>
        <p:blipFill>
          <a:blip r:embed="rId2"/>
          <a:stretch/>
        </p:blipFill>
        <p:spPr>
          <a:xfrm>
            <a:off x="1187280" y="1341360"/>
            <a:ext cx="6858000" cy="478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승용차 표준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28760" y="1571760"/>
          <a:ext cx="8286480" cy="4960800"/>
        </p:xfrm>
        <a:graphic>
          <a:graphicData uri="http://schemas.openxmlformats.org/drawingml/2006/table">
            <a:tbl>
              <a:tblPr/>
              <a:tblGrid>
                <a:gridCol w="1036440"/>
                <a:gridCol w="1136880"/>
                <a:gridCol w="2840040"/>
                <a:gridCol w="1636560"/>
                <a:gridCol w="1636560"/>
              </a:tblGrid>
              <a:tr h="3682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도장 공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    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대표적인 재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처리방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피막두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탈지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표면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화성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칼리 탈지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산아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p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5-2.0 g/m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착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성 에폭시 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키티온 전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0-18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폴리에스테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멜라민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-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57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키드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C1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-4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2C1B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베이스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15~20 </a:t>
                      </a:r>
                      <a:br>
                        <a:rPr sz="1500"/>
                      </a:b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클리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~4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메탈릭 마이카 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금속의 부식반응 억제와 하도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전착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소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부착력을 강화시켜 방청성을 향상시킴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을 피막의 주성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Dipping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처리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8:37:47Z</dcterms:created>
  <dc:creator>user</dc:creator>
  <dc:description/>
  <dc:language>en-US</dc:language>
  <cp:lastModifiedBy>as0557585734</cp:lastModifiedBy>
  <dcterms:modified xsi:type="dcterms:W3CDTF">2009-12-01T13:59:27Z</dcterms:modified>
  <cp:revision>54</cp:revision>
  <dc:subject/>
  <dc:title>자동차속의 도료와 접착제</dc:title>
</cp:coreProperties>
</file>